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A8A-DE6D-42E4-B245-93D40761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09F-797A-48F8-8C67-AB0131B2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4FB-E12B-403F-ACC4-23EC854B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0F5-F932-466B-9CCC-446A6ACD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E5C-3DE3-438F-ACC3-412564B9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328-8D4C-4584-B383-9D6E6054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BA2-5A1D-4B1F-88DE-AC5C5FA0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5DE-B791-4D2C-AF6F-43C3D0B8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98D-150A-4532-A8B1-F1C0DAE1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DEF7-7D85-41FC-B015-A4253863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A4F-8530-4C43-BE66-974986B1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6EE-1B42-4E09-836D-6C60A8A0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6609-AF75-4B95-844F-BA2803D2D2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2.xml"/><Relationship Id="rId4" Type="http://schemas.openxmlformats.org/officeDocument/2006/relationships/slide" Target="slide32.xml"/><Relationship Id="rId5" Type="http://schemas.openxmlformats.org/officeDocument/2006/relationships/slide" Target="slide4.xml"/><Relationship Id="rId6" Type="http://schemas.openxmlformats.org/officeDocument/2006/relationships/slide" Target="slide14.xml"/><Relationship Id="rId7" Type="http://schemas.openxmlformats.org/officeDocument/2006/relationships/slide" Target="slide24.xml"/><Relationship Id="rId8" Type="http://schemas.openxmlformats.org/officeDocument/2006/relationships/slide" Target="slide34.xml"/><Relationship Id="rId9" Type="http://schemas.openxmlformats.org/officeDocument/2006/relationships/slide" Target="slide6.xml"/><Relationship Id="rId10" Type="http://schemas.openxmlformats.org/officeDocument/2006/relationships/slide" Target="slide16.xml"/><Relationship Id="rId11" Type="http://schemas.openxmlformats.org/officeDocument/2006/relationships/slide" Target="slide26.xml"/><Relationship Id="rId12" Type="http://schemas.openxmlformats.org/officeDocument/2006/relationships/slide" Target="slide36.xml"/><Relationship Id="rId13" Type="http://schemas.openxmlformats.org/officeDocument/2006/relationships/slide" Target="slide8.xml"/><Relationship Id="rId14" Type="http://schemas.openxmlformats.org/officeDocument/2006/relationships/slide" Target="slide18.xml"/><Relationship Id="rId15" Type="http://schemas.openxmlformats.org/officeDocument/2006/relationships/slide" Target="slide28.xml"/><Relationship Id="rId16" Type="http://schemas.openxmlformats.org/officeDocument/2006/relationships/slide" Target="slide38.xml"/><Relationship Id="rId17" Type="http://schemas.openxmlformats.org/officeDocument/2006/relationships/slide" Target="slide10.xml"/><Relationship Id="rId18" Type="http://schemas.openxmlformats.org/officeDocument/2006/relationships/slide" Target="slide20.xml"/><Relationship Id="rId19" Type="http://schemas.openxmlformats.org/officeDocument/2006/relationships/slide" Target="slide30.xml"/><Relationship Id="rId20" Type="http://schemas.openxmlformats.org/officeDocument/2006/relationships/slide" Target="slide40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685800"/>
          <a:ext cx="8153280" cy="5440320"/>
        </p:xfrm>
        <a:graphic>
          <a:graphicData uri="http://schemas.openxmlformats.org/drawingml/2006/table">
            <a:tbl>
              <a:tblPr/>
              <a:tblGrid>
                <a:gridCol w="2039760"/>
                <a:gridCol w="2038680"/>
                <a:gridCol w="2036520"/>
                <a:gridCol w="2038320"/>
              </a:tblGrid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kespe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zabetha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cab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etr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why Romeo and Juliet are considered to be “star-crossed lovers.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they are doomed to disaster by fat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game involved rolling a ball toward a stake and the closest contestant wo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bowl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was considered a sport where a bear was put on a leash and then attacked by 4 or 5 dog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bearbaiting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was mail delivere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on a hors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was used in place of numbers for address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are sig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hakespeare’s theater was named thi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n’s clothing during this time resembled thi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lizabethan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suit of armo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where there are two consecutive lines of poetry that rhy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couple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a violation of a law, command, or duty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transgression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of or relating to marriage or wedding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nuptial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a straight 2-edged sword with a narrow pointed blad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rapi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the Glob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an opponent or an enemy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Vocab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n adversar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how many lines a sonnet contain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1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14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how many syllables are in each line of a sonne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10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rhyme scheme that a sonnet follow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BABCDCDEFEFGG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first stanza introduces thi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the problem or situation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means that certain words are not used anymore or their definitions are no longer the sam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couplet does this for the thematic structure of the sonnet. (hint: it is not “rhymes”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oetry 5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resolves the problem or situation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2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rchai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a speech given by a character who is alone on stage, speaking to himself or the audienc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3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a soliloqu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y don’t we know much about Shakespeare’s lif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hakespeare 400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is because he left us no journals or letters—only poem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firstslide"/>
          </p:cNvPr>
          <p:cNvSpPr/>
          <p:nvPr/>
        </p:nvSpPr>
        <p:spPr>
          <a:xfrm>
            <a:off x="84582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1T19:13:10Z</dcterms:created>
  <dc:creator>ORA</dc:creator>
  <dc:description/>
  <dc:language>en-US</dc:language>
  <cp:lastModifiedBy>ORA</cp:lastModifiedBy>
  <dcterms:modified xsi:type="dcterms:W3CDTF">2013-05-02T11:46:28Z</dcterms:modified>
  <cp:revision>8</cp:revision>
  <dc:subject/>
  <dc:title>Slide 1</dc:title>
</cp:coreProperties>
</file>